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25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nstantia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A1E16-C5AD-4EA1-B62A-6F2C4D781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sson 25-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382C2-68B2-443A-B05C-F282189343A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4D4C-A004-4D99-BA2C-C06614F9C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62200"/>
            <a:ext cx="82296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87200"/>
            <a:ext cx="82296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A968-40AB-4199-AC09-BB215DFFA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62200"/>
            <a:ext cx="40158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62200"/>
            <a:ext cx="40158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87200"/>
            <a:ext cx="40158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87200"/>
            <a:ext cx="40158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E72B-88C1-4409-A77F-0C4ECB5A0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62200"/>
            <a:ext cx="26496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62200"/>
            <a:ext cx="26496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62200"/>
            <a:ext cx="26496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87200"/>
            <a:ext cx="26496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87200"/>
            <a:ext cx="26496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87200"/>
            <a:ext cx="26496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F276-E1D4-4D95-BC8C-0C394AF8E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62200"/>
            <a:ext cx="822960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E57F-1C94-47EB-B7E5-688FCEDF4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62200"/>
            <a:ext cx="8229600" cy="38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55F1-FCDD-4515-B093-55E1640C2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62200"/>
            <a:ext cx="4015800" cy="38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62200"/>
            <a:ext cx="4015800" cy="38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0390-5BF9-44BC-B3A9-37EC4042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597D-1682-4ACB-B23D-A8841F9F9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41B4-335A-463C-8E42-F197B99D0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62200"/>
            <a:ext cx="40158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62200"/>
            <a:ext cx="4015800" cy="38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87200"/>
            <a:ext cx="40158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BE9A-8121-47E9-BB67-657D620E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62200"/>
            <a:ext cx="4015800" cy="38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62200"/>
            <a:ext cx="40158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87200"/>
            <a:ext cx="40158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7F9C-4A9F-48BA-80B2-4D708524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62200"/>
            <a:ext cx="40158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62200"/>
            <a:ext cx="40158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87200"/>
            <a:ext cx="82296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E0E7-5A96-44E0-B652-6A702C1C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62200"/>
            <a:ext cx="8229600" cy="38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9920" indent="-259920">
              <a:spcBef>
                <a:spcPts val="20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531360" indent="-271440">
              <a:spcBef>
                <a:spcPts val="2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791280" indent="-259920">
              <a:spcBef>
                <a:spcPts val="2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3" marL="1051560" indent="-259920">
              <a:spcBef>
                <a:spcPts val="2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4" marL="1311480" indent="-259920"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5" marL="1311480" indent="-259920"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6" marL="1311480" indent="-259920"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32720" y="58827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2479C-3691-4199-AC4D-27C90F7DED28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5240" y="5882760"/>
            <a:ext cx="2895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228920" y="5882760"/>
            <a:ext cx="685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359A8-FE0D-4C54-A953-DAB7EA94B7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tantia"/>
              </a:rPr>
              <a:t>INTEREST INCOME ADJUSTMENT</a:t>
            </a:r>
            <a:endParaRPr b="1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9" name="Picture 4" descr="D:\C21 PowerPoint\Multi_Journal\art for blue\Ch25\Ch25-02a.jpg"/>
          <p:cNvPicPr/>
          <p:nvPr/>
        </p:nvPicPr>
        <p:blipFill>
          <a:blip r:embed="rId2"/>
          <a:srcRect l="1347" t="0" r="0" b="86914"/>
          <a:stretch/>
        </p:blipFill>
        <p:spPr>
          <a:xfrm>
            <a:off x="366840" y="1828800"/>
            <a:ext cx="8153280" cy="1444680"/>
          </a:xfrm>
          <a:prstGeom prst="rect">
            <a:avLst/>
          </a:prstGeom>
          <a:ln w="0">
            <a:noFill/>
          </a:ln>
        </p:spPr>
      </p:pic>
      <p:sp>
        <p:nvSpPr>
          <p:cNvPr id="50" name="Oval 5"/>
          <p:cNvSpPr/>
          <p:nvPr/>
        </p:nvSpPr>
        <p:spPr>
          <a:xfrm>
            <a:off x="5683320" y="228600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292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Oval 6"/>
          <p:cNvSpPr/>
          <p:nvPr/>
        </p:nvSpPr>
        <p:spPr>
          <a:xfrm>
            <a:off x="8379000" y="277812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292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511200" y="3581280"/>
            <a:ext cx="550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Debit Interest Receiv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511200" y="394668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dit Interest Inco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7341120" y="68572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5-2, page 64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tantia"/>
              </a:rPr>
              <a:t>UNCOLLECTIBLE ACCOUNTS EXPENSE ADJUSTMENT</a:t>
            </a:r>
            <a:endParaRPr b="1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56" name="Picture 4" descr="D:\C21 PowerPoint\Multi_Journal\art for blue\Ch25\Ch25-02b.jpg"/>
          <p:cNvPicPr/>
          <p:nvPr/>
        </p:nvPicPr>
        <p:blipFill>
          <a:blip r:embed="rId2"/>
          <a:srcRect l="1347" t="0" r="0" b="86914"/>
          <a:stretch/>
        </p:blipFill>
        <p:spPr>
          <a:xfrm>
            <a:off x="366840" y="1706400"/>
            <a:ext cx="8229600" cy="1457640"/>
          </a:xfrm>
          <a:prstGeom prst="rect">
            <a:avLst/>
          </a:prstGeom>
          <a:ln w="0">
            <a:noFill/>
          </a:ln>
        </p:spPr>
      </p:pic>
      <p:sp>
        <p:nvSpPr>
          <p:cNvPr id="57" name="Oval 5"/>
          <p:cNvSpPr/>
          <p:nvPr/>
        </p:nvSpPr>
        <p:spPr>
          <a:xfrm>
            <a:off x="8431200" y="221616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292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Oval 6"/>
          <p:cNvSpPr/>
          <p:nvPr/>
        </p:nvSpPr>
        <p:spPr>
          <a:xfrm>
            <a:off x="7311960" y="292572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292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511200" y="3459240"/>
            <a:ext cx="65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Credit Allowance for Uncollectible Accou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511200" y="3824280"/>
            <a:ext cx="619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bit Uncollectible Accounts Expen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7341120" y="67348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5-2, page 64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tantia"/>
              </a:rPr>
              <a:t>MERCHANDISE INVENTORY ADJUSTMENT</a:t>
            </a:r>
            <a:endParaRPr b="1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63" name="Picture 4" descr="D:\C21 PowerPoint\Multi_Journal\art for blue\Ch25\Ch25-02c.jpg"/>
          <p:cNvPicPr/>
          <p:nvPr/>
        </p:nvPicPr>
        <p:blipFill>
          <a:blip r:embed="rId2"/>
          <a:srcRect l="1614" t="0" r="0" b="86876"/>
          <a:stretch/>
        </p:blipFill>
        <p:spPr>
          <a:xfrm>
            <a:off x="404640" y="1706400"/>
            <a:ext cx="8229600" cy="1467000"/>
          </a:xfrm>
          <a:prstGeom prst="rect">
            <a:avLst/>
          </a:prstGeom>
          <a:ln w="0">
            <a:noFill/>
          </a:ln>
        </p:spPr>
      </p:pic>
      <p:sp>
        <p:nvSpPr>
          <p:cNvPr id="64" name="Oval 5"/>
          <p:cNvSpPr/>
          <p:nvPr/>
        </p:nvSpPr>
        <p:spPr>
          <a:xfrm>
            <a:off x="5780160" y="221616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292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Oval 6"/>
          <p:cNvSpPr/>
          <p:nvPr/>
        </p:nvSpPr>
        <p:spPr>
          <a:xfrm>
            <a:off x="8416800" y="269064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292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514440" y="3459240"/>
            <a:ext cx="55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Debit Merchandise Invent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514440" y="382428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dit Income Summ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7344360" y="67348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5-2, page 64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nstantia"/>
              </a:rPr>
              <a:t>SUPPLIES ADJUSTMENT</a:t>
            </a: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70" name="Picture 4" descr="D:\C21 PowerPoint\Multi_Journal\art for blue\Ch25\Ch25-02d.jpg"/>
          <p:cNvPicPr/>
          <p:nvPr/>
        </p:nvPicPr>
        <p:blipFill>
          <a:blip r:embed="rId2"/>
          <a:srcRect l="1614" t="0" r="0" b="86876"/>
          <a:stretch/>
        </p:blipFill>
        <p:spPr>
          <a:xfrm>
            <a:off x="366840" y="2085840"/>
            <a:ext cx="8229600" cy="1467000"/>
          </a:xfrm>
          <a:prstGeom prst="rect">
            <a:avLst/>
          </a:prstGeom>
          <a:ln w="0">
            <a:noFill/>
          </a:ln>
        </p:spPr>
      </p:pic>
      <p:sp>
        <p:nvSpPr>
          <p:cNvPr id="71" name="Oval 5"/>
          <p:cNvSpPr/>
          <p:nvPr/>
        </p:nvSpPr>
        <p:spPr>
          <a:xfrm>
            <a:off x="8379000" y="259560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292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Oval 6"/>
          <p:cNvSpPr/>
          <p:nvPr/>
        </p:nvSpPr>
        <p:spPr>
          <a:xfrm>
            <a:off x="5864400" y="322884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292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511200" y="3838680"/>
            <a:ext cx="481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Credit Suppl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511200" y="420372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bit Supplies Expen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7341120" y="711432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5-2, page 64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tantia"/>
              </a:rPr>
              <a:t>PREPAID INSURANCE ADJUSTMENT</a:t>
            </a:r>
            <a:endParaRPr b="1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77" name="Picture 4" descr="D:\C21 PowerPoint\Multi_Journal\art for blue\Ch25\Ch25-02e.jpg"/>
          <p:cNvPicPr/>
          <p:nvPr/>
        </p:nvPicPr>
        <p:blipFill>
          <a:blip r:embed="rId2"/>
          <a:srcRect l="2687" t="0" r="0" b="86914"/>
          <a:stretch/>
        </p:blipFill>
        <p:spPr>
          <a:xfrm>
            <a:off x="453960" y="2362320"/>
            <a:ext cx="8153640" cy="1465200"/>
          </a:xfrm>
          <a:prstGeom prst="rect">
            <a:avLst/>
          </a:prstGeom>
          <a:ln w="0">
            <a:noFill/>
          </a:ln>
        </p:spPr>
      </p:pic>
      <p:sp>
        <p:nvSpPr>
          <p:cNvPr id="78" name="Oval 9"/>
          <p:cNvSpPr/>
          <p:nvPr/>
        </p:nvSpPr>
        <p:spPr>
          <a:xfrm>
            <a:off x="8413920" y="287172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292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Oval 10"/>
          <p:cNvSpPr/>
          <p:nvPr/>
        </p:nvSpPr>
        <p:spPr>
          <a:xfrm>
            <a:off x="5829480" y="3505320"/>
            <a:ext cx="533160" cy="53316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292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511200" y="4114800"/>
            <a:ext cx="481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Credit Prepaid Insur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511200" y="447984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bit Insurance Expen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 Box 13"/>
          <p:cNvSpPr/>
          <p:nvPr/>
        </p:nvSpPr>
        <p:spPr>
          <a:xfrm>
            <a:off x="7341120" y="739080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5-2, page 64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DEPRECIATION EXPENSE ADJUSTMENTS</a:t>
            </a: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84" name="Picture 4" descr="D:\C21 PowerPoint\Multi_Journal\art for blue\Ch25\Ch25-02f.jpg"/>
          <p:cNvPicPr/>
          <p:nvPr/>
        </p:nvPicPr>
        <p:blipFill>
          <a:blip r:embed="rId2"/>
          <a:srcRect l="1350" t="2929" r="0" b="69746"/>
          <a:stretch/>
        </p:blipFill>
        <p:spPr>
          <a:xfrm>
            <a:off x="369720" y="1143000"/>
            <a:ext cx="8229600" cy="3147840"/>
          </a:xfrm>
          <a:prstGeom prst="rect">
            <a:avLst/>
          </a:prstGeom>
          <a:ln w="0">
            <a:noFill/>
          </a:ln>
        </p:spPr>
      </p:pic>
      <p:sp>
        <p:nvSpPr>
          <p:cNvPr id="85" name="Oval 5"/>
          <p:cNvSpPr/>
          <p:nvPr/>
        </p:nvSpPr>
        <p:spPr>
          <a:xfrm>
            <a:off x="8381880" y="1752480"/>
            <a:ext cx="457200" cy="45720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292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Oval 6"/>
          <p:cNvSpPr/>
          <p:nvPr/>
        </p:nvSpPr>
        <p:spPr>
          <a:xfrm>
            <a:off x="8381880" y="2362320"/>
            <a:ext cx="457200" cy="45720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292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Oval 7"/>
          <p:cNvSpPr/>
          <p:nvPr/>
        </p:nvSpPr>
        <p:spPr>
          <a:xfrm>
            <a:off x="7391520" y="3886200"/>
            <a:ext cx="457200" cy="45720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292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Oval 8"/>
          <p:cNvSpPr/>
          <p:nvPr/>
        </p:nvSpPr>
        <p:spPr>
          <a:xfrm>
            <a:off x="7391520" y="3276720"/>
            <a:ext cx="457200" cy="45720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292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514440" y="5234040"/>
            <a:ext cx="710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dit Accumulated Depreciation—Store Equip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514440" y="4495680"/>
            <a:ext cx="733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Credit Accumulated Depreciation—Office Equip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514440" y="5597640"/>
            <a:ext cx="67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bit Depreciation Expense—Store Equip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514440" y="4861080"/>
            <a:ext cx="733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bit Depreciation Expense—Office Equip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5-2, page 64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2"/>
          <p:cNvSpPr/>
          <p:nvPr/>
        </p:nvSpPr>
        <p:spPr>
          <a:xfrm>
            <a:off x="514440" y="414972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bit Interest Expen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tantia"/>
              </a:rPr>
              <a:t>INTEREST EXPENSE ADJUSTMENT</a:t>
            </a:r>
            <a:endParaRPr b="1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96" name="Picture 4" descr="D:\C21 PowerPoint\Multi_Journal\art for blue\Ch25\Ch25-02g.jpg"/>
          <p:cNvPicPr/>
          <p:nvPr/>
        </p:nvPicPr>
        <p:blipFill>
          <a:blip r:embed="rId2"/>
          <a:srcRect l="1350" t="0" r="0" b="85916"/>
          <a:stretch/>
        </p:blipFill>
        <p:spPr>
          <a:xfrm>
            <a:off x="457200" y="2031840"/>
            <a:ext cx="8229600" cy="1573200"/>
          </a:xfrm>
          <a:prstGeom prst="rect">
            <a:avLst/>
          </a:prstGeom>
          <a:ln w="0">
            <a:noFill/>
          </a:ln>
        </p:spPr>
      </p:pic>
      <p:sp>
        <p:nvSpPr>
          <p:cNvPr id="97" name="Oval 9"/>
          <p:cNvSpPr/>
          <p:nvPr/>
        </p:nvSpPr>
        <p:spPr>
          <a:xfrm>
            <a:off x="6840360" y="255888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292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Oval 10"/>
          <p:cNvSpPr/>
          <p:nvPr/>
        </p:nvSpPr>
        <p:spPr>
          <a:xfrm>
            <a:off x="5832360" y="302256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292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514440" y="3784680"/>
            <a:ext cx="481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Credit Interest Pay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7344360" y="706032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5-2, page 64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1T00:27:23Z</dcterms:created>
  <dc:creator>Mary Colleen McLaughlin</dc:creator>
  <dc:description/>
  <dc:language>en-US</dc:language>
  <cp:lastModifiedBy>David Combs</cp:lastModifiedBy>
  <cp:lastPrinted>1999-04-10T02:54:00Z</cp:lastPrinted>
  <dcterms:modified xsi:type="dcterms:W3CDTF">2011-12-12T20:10:29Z</dcterms:modified>
  <cp:revision>78</cp:revision>
  <dc:subject/>
  <dc:title>ADJUSTING ENTRY FOR SUPPLIES</dc:title>
</cp:coreProperties>
</file>